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日本語学習を含んだ文化的教室活動案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-1 New Year in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8511-FEB5-4650-B6FA-70092D492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日本語学習を含んだ文化的教室活動案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3-1 New Year in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ヘッダー プレースホルダー 3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日本語学習を含んだ文化的教室活動案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3-1 New Year in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スライド番号プレースホルダー 4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9806-BEFD-4C1E-8431-5D0AEE2C4A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ヘッダー プレースホルダー 3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日本語学習を含んだ文化的教室活動案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3-1 New Year in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スライド番号プレースホルダー 4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5B4F-0802-4322-89E7-F605A28E10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日本語学習を含んだ文化的教室活動案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3-1 New Year in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ヘッダー プレースホルダー 3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日本語学習を含んだ文化的教室活動案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3-1 New Year in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スライド番号プレースホルダー 4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E5EA-EF0C-47F9-AC18-6FBFAC910E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ヘッダー プレースホルダー 3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日本語学習を含んだ文化的教室活動案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3-1 New Year in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スライド番号プレースホルダー 4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27F3-C62D-4A34-A7D9-3AA24D3D1B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ヘッダー プレースホルダー 3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日本語学習を含んだ文化的教室活動案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3-1 New Year in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スライド番号プレースホルダー 4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C4C9-EC3D-4A20-A339-EB411C3A4B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9D7-F904-4AE5-8FA2-87089679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F4B-B133-4372-834C-3D1A2280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965-B05E-4477-AC1C-998CA854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E35-D84E-473B-BFD0-06507C39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ECF-05E6-46B6-A684-974A5F3A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6BC9-5E27-41D0-B758-768E9B67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408-8624-4F9B-9787-7560C938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64F-3AD2-4170-8885-78F5C90E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92E-A1DB-43A4-8F9B-B50C6069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9E8-8034-4227-BA82-B1A09086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76F-C20C-4B8E-BB24-B84B0A4B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424E-484A-4209-B781-69147A38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1C64-1C5F-4110-8194-04FDB91B7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20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t’s learn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January Event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in Japa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5706720"/>
            <a:ext cx="64008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m RSN CD Lesson 9 Culture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otos from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Minnano Kyozai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Sob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Nood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5661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New Year’s Eve, noodle dishes are eaten in the hope you will be blessed with a long life, because noodles are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5436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Nengaj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ō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(New Year Car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5445000"/>
            <a:ext cx="8604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Year’s Cards are sent to family and friends, much in the same way you may send Christmas Cards. All cards bought at the post office contain a unique number and there is a lottery held shortly after New Year with various prizes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616720" cy="373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 Year Deco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5224320"/>
            <a:ext cx="914400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New Year's, the gates of Japanese houses are often decorated with a pine and bamboo tree, called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Kado-matsu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 The reason is that the gods of the year (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Toshi-gam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) are thought to come and possess these trees at this tim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nging a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Shime-kazar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made of straw rope over their doorways or in rooms purifies the area in preparation for the god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round rice cakes offered to the gods at New Year's are called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Kagami-mochi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("mirror" rice cakes, because they are round and flat). There are two rice cakes, a small one placed on top of a large one. After 11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of January, Japanese people usually enjoy eating it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4599000" cy="287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755640" y="733320"/>
            <a:ext cx="3616200" cy="2292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5651640" y="755640"/>
            <a:ext cx="3327120" cy="2301840"/>
          </a:xfrm>
          <a:prstGeom prst="rect">
            <a:avLst/>
          </a:prstGeom>
          <a:ln w="0">
            <a:noFill/>
          </a:ln>
        </p:spPr>
      </p:pic>
      <p:sp>
        <p:nvSpPr>
          <p:cNvPr id="61" name="テキスト ボックス 1"/>
          <p:cNvSpPr/>
          <p:nvPr/>
        </p:nvSpPr>
        <p:spPr>
          <a:xfrm>
            <a:off x="2428920" y="321300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9"/>
          <p:cNvSpPr/>
          <p:nvPr/>
        </p:nvSpPr>
        <p:spPr>
          <a:xfrm>
            <a:off x="341280" y="76680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10"/>
          <p:cNvSpPr/>
          <p:nvPr/>
        </p:nvSpPr>
        <p:spPr>
          <a:xfrm>
            <a:off x="5237280" y="88884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円形吹き出し 11"/>
          <p:cNvSpPr/>
          <p:nvPr/>
        </p:nvSpPr>
        <p:spPr>
          <a:xfrm>
            <a:off x="141120" y="3397320"/>
            <a:ext cx="2665440" cy="1582560"/>
          </a:xfrm>
          <a:prstGeom prst="wedgeEllipseCallout">
            <a:avLst>
              <a:gd name="adj1" fmla="val -53833"/>
              <a:gd name="adj2" fmla="val -554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do you think these ornaments are f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Otoshid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55893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panese children usually receive money on New Year’s Day from their families. These envelopes are very popular with children and they can’t wait to receive them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5837400" cy="4319640"/>
          </a:xfrm>
          <a:prstGeom prst="rect">
            <a:avLst/>
          </a:prstGeom>
          <a:ln w="0">
            <a:noFill/>
          </a:ln>
        </p:spPr>
      </p:pic>
      <p:sp>
        <p:nvSpPr>
          <p:cNvPr id="68" name="円形吹き出し 6"/>
          <p:cNvSpPr/>
          <p:nvPr/>
        </p:nvSpPr>
        <p:spPr>
          <a:xfrm>
            <a:off x="108000" y="1484280"/>
            <a:ext cx="2735280" cy="2016000"/>
          </a:xfrm>
          <a:prstGeom prst="wedgeEllipseCallout">
            <a:avLst>
              <a:gd name="adj1" fmla="val -53833"/>
              <a:gd name="adj2" fmla="val -554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 you think is in these envelop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Hatsu-m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ō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5805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go to pray to the gods and Buddhas that the New Year will be a good one. The first visit to a Shinto shrine or Buddhist temple in the New Year is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tsu-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s://minnanokyozai.jp/kyozai/material/SPA00245/64001001.jpg"/>
          <p:cNvPicPr/>
          <p:nvPr/>
        </p:nvPicPr>
        <p:blipFill>
          <a:blip r:embed="rId1"/>
          <a:stretch/>
        </p:blipFill>
        <p:spPr>
          <a:xfrm>
            <a:off x="2340000" y="765000"/>
            <a:ext cx="6654600" cy="4824720"/>
          </a:xfrm>
          <a:prstGeom prst="rect">
            <a:avLst/>
          </a:prstGeom>
          <a:ln w="0">
            <a:noFill/>
          </a:ln>
        </p:spPr>
      </p:pic>
      <p:sp>
        <p:nvSpPr>
          <p:cNvPr id="72" name="円形吹き出し 3"/>
          <p:cNvSpPr/>
          <p:nvPr/>
        </p:nvSpPr>
        <p:spPr>
          <a:xfrm>
            <a:off x="108000" y="1484280"/>
            <a:ext cx="2735280" cy="2016000"/>
          </a:xfrm>
          <a:prstGeom prst="wedgeEllipseCallout">
            <a:avLst>
              <a:gd name="adj1" fmla="val -53833"/>
              <a:gd name="adj2" fmla="val -554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 you think they are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se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5660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om the 1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f January to about 3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people eat a special meal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Osech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Ozon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whole family joins in celebrating the New Year on the 1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f January. This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Osechi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s made with sweet boiling vegetables, seafood, meat and so on. It is very delicious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s://minnanokyozai.jp/kyozai/material/SPA00243/64004001.jpg"/>
          <p:cNvPicPr/>
          <p:nvPr/>
        </p:nvPicPr>
        <p:blipFill>
          <a:blip r:embed="rId1"/>
          <a:stretch/>
        </p:blipFill>
        <p:spPr>
          <a:xfrm>
            <a:off x="2411280" y="765000"/>
            <a:ext cx="6408720" cy="4646880"/>
          </a:xfrm>
          <a:prstGeom prst="rect">
            <a:avLst/>
          </a:prstGeom>
          <a:ln w="0">
            <a:noFill/>
          </a:ln>
        </p:spPr>
      </p:pic>
      <p:sp>
        <p:nvSpPr>
          <p:cNvPr id="76" name="円形吹き出し 4"/>
          <p:cNvSpPr/>
          <p:nvPr/>
        </p:nvSpPr>
        <p:spPr>
          <a:xfrm>
            <a:off x="173160" y="1450800"/>
            <a:ext cx="2663640" cy="1582920"/>
          </a:xfrm>
          <a:prstGeom prst="wedgeEllipseCallout">
            <a:avLst>
              <a:gd name="adj1" fmla="val -53833"/>
              <a:gd name="adj2" fmla="val -554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at do you think it i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592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ames for Janu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86160" y="6154560"/>
            <a:ext cx="512280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’s play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ukuwara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1"/>
          <a:stretch/>
        </p:blipFill>
        <p:spPr>
          <a:xfrm>
            <a:off x="297000" y="944640"/>
            <a:ext cx="3369960" cy="169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160200" y="2637000"/>
            <a:ext cx="3327480" cy="35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5707080" y="3429000"/>
            <a:ext cx="3201840" cy="187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4"/>
          <a:stretch/>
        </p:blipFill>
        <p:spPr>
          <a:xfrm>
            <a:off x="5472000" y="944640"/>
            <a:ext cx="367200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5"/>
          <a:stretch/>
        </p:blipFill>
        <p:spPr>
          <a:xfrm>
            <a:off x="2975040" y="2637000"/>
            <a:ext cx="2732040" cy="2842920"/>
          </a:xfrm>
          <a:prstGeom prst="rect">
            <a:avLst/>
          </a:prstGeom>
          <a:ln w="0">
            <a:noFill/>
          </a:ln>
        </p:spPr>
      </p:pic>
      <p:sp>
        <p:nvSpPr>
          <p:cNvPr id="84" name="テキスト ボックス 1"/>
          <p:cNvSpPr/>
          <p:nvPr/>
        </p:nvSpPr>
        <p:spPr>
          <a:xfrm>
            <a:off x="39528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hod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ō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Japanese Calli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9"/>
          <p:cNvSpPr/>
          <p:nvPr/>
        </p:nvSpPr>
        <p:spPr>
          <a:xfrm>
            <a:off x="3548160" y="51228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ukuwarai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unny faces  g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10"/>
          <p:cNvSpPr/>
          <p:nvPr/>
        </p:nvSpPr>
        <p:spPr>
          <a:xfrm>
            <a:off x="6496200" y="25052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anetsuki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year badmin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6453360" y="5261040"/>
            <a:ext cx="20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Karuta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ard g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03120" y="466092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ko-ag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Kite fly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6:02:58Z</dcterms:created>
  <dc:creator>h.tanaka</dc:creator>
  <dc:description/>
  <dc:language>en-US</dc:language>
  <cp:lastModifiedBy>Hiroko Tanaka</cp:lastModifiedBy>
  <cp:lastPrinted>2014-01-31T10:51:12Z</cp:lastPrinted>
  <dcterms:modified xsi:type="dcterms:W3CDTF">2014-01-31T11:01:58Z</dcterms:modified>
  <cp:revision>22</cp:revision>
  <dc:subject/>
  <dc:title>Let’s learn  about New Year in Japan!</dc:title>
</cp:coreProperties>
</file>